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808-23C3-4B0D-B60C-6D3097A7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DA3-1513-40BD-B82E-DFEB5DF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799-11FD-481F-B6AF-13887983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392-6FBD-4462-AE40-1A1CAF4E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6E4-3F28-44CC-A18E-089A2F29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FB5-576E-4F90-8BE8-59ED5C1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531-97C8-4CD9-9DCF-F8AFCF77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F79-3BE7-4967-913F-574DCF4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EF0-DFFA-42D6-BD0D-9835A1A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D5C-C491-49EA-9EF6-1278F66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938-1C25-498C-8E73-2EC061C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2B5-F90C-4D17-B645-D77EEFD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E58A-F3EB-4F8D-941C-9541E0AF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2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2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2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2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2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2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2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2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2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2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2.png"/><Relationship Id="rId39" Type="http://schemas.openxmlformats.org/officeDocument/2006/relationships/slide" Target="slide29.xml"/><Relationship Id="rId40" Type="http://schemas.openxmlformats.org/officeDocument/2006/relationships/slide" Target="slide30.xml"/><Relationship Id="rId41" Type="http://schemas.openxmlformats.org/officeDocument/2006/relationships/image" Target="../media/image2.png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image" Target="../media/image2.png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image" Target="../media/image2.png"/><Relationship Id="rId48" Type="http://schemas.openxmlformats.org/officeDocument/2006/relationships/slide" Target="slide35.xml"/><Relationship Id="rId49" Type="http://schemas.openxmlformats.org/officeDocument/2006/relationships/slide" Target="slide36.xml"/><Relationship Id="rId50" Type="http://schemas.openxmlformats.org/officeDocument/2006/relationships/image" Target="../media/image2.png"/><Relationship Id="rId51" Type="http://schemas.openxmlformats.org/officeDocument/2006/relationships/slide" Target="slide37.xml"/><Relationship Id="rId52" Type="http://schemas.openxmlformats.org/officeDocument/2006/relationships/slide" Target="slide38.xml"/><Relationship Id="rId53" Type="http://schemas.openxmlformats.org/officeDocument/2006/relationships/image" Target="../media/image2.png"/><Relationship Id="rId54" Type="http://schemas.openxmlformats.org/officeDocument/2006/relationships/slide" Target="slide39.xml"/><Relationship Id="rId55" Type="http://schemas.openxmlformats.org/officeDocument/2006/relationships/slide" Target="slide40.xml"/><Relationship Id="rId56" Type="http://schemas.openxmlformats.org/officeDocument/2006/relationships/image" Target="../media/image2.png"/><Relationship Id="rId57" Type="http://schemas.openxmlformats.org/officeDocument/2006/relationships/slide" Target="slide41.xml"/><Relationship Id="rId58" Type="http://schemas.openxmlformats.org/officeDocument/2006/relationships/slide" Target="slide42.xml"/><Relationship Id="rId59" Type="http://schemas.openxmlformats.org/officeDocument/2006/relationships/image" Target="../media/image2.png"/><Relationship Id="rId60" Type="http://schemas.openxmlformats.org/officeDocument/2006/relationships/slide" Target="slide43.xml"/><Relationship Id="rId61" Type="http://schemas.openxmlformats.org/officeDocument/2006/relationships/slide" Target="slide44.xml"/><Relationship Id="rId62" Type="http://schemas.openxmlformats.org/officeDocument/2006/relationships/image" Target="../media/image2.png"/><Relationship Id="rId63" Type="http://schemas.openxmlformats.org/officeDocument/2006/relationships/slide" Target="slide45.xml"/><Relationship Id="rId64" Type="http://schemas.openxmlformats.org/officeDocument/2006/relationships/slide" Target="slide46.xml"/><Relationship Id="rId65" Type="http://schemas.openxmlformats.org/officeDocument/2006/relationships/image" Target="../media/image2.png"/><Relationship Id="rId66" Type="http://schemas.openxmlformats.org/officeDocument/2006/relationships/slide" Target="slide47.xml"/><Relationship Id="rId67" Type="http://schemas.openxmlformats.org/officeDocument/2006/relationships/slide" Target="slide48.xml"/><Relationship Id="rId68" Type="http://schemas.openxmlformats.org/officeDocument/2006/relationships/image" Target="../media/image2.png"/><Relationship Id="rId69" Type="http://schemas.openxmlformats.org/officeDocument/2006/relationships/slide" Target="slide49.xml"/><Relationship Id="rId70" Type="http://schemas.openxmlformats.org/officeDocument/2006/relationships/slide" Target="slide50.xml"/><Relationship Id="rId71" Type="http://schemas.openxmlformats.org/officeDocument/2006/relationships/image" Target="../media/image2.png"/><Relationship Id="rId72" Type="http://schemas.openxmlformats.org/officeDocument/2006/relationships/slide" Target="slide51.xml"/><Relationship Id="rId73" Type="http://schemas.openxmlformats.org/officeDocument/2006/relationships/slide" Target=""/><Relationship Id="rId74" Type="http://schemas.openxmlformats.org/officeDocument/2006/relationships/image" Target="../media/image2.png"/><Relationship Id="rId75" Type="http://schemas.openxmlformats.org/officeDocument/2006/relationships/slide" Target=""/><Relationship Id="rId76" Type="http://schemas.openxmlformats.org/officeDocument/2006/relationships/slide" Target="slide53.xml"/><Relationship Id="rId7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The Cell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karyotes do not hav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a nucleu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are small particles of RNA and protein found throughout the cytopla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4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re assembled on ribos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prote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lipid components of the cell membrane are assembled, along with proteins and other materials exported from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ndoplasmic ret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odifies, sorts and packages proteins and other materials from the ER for storage in the cell or for secretion outside the ce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>
            <a:hlinkClick r:id="rId4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>
            <a:hlinkClick r:id="rId4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>
            <a:hlinkClick r:id="rId4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8">
            <a:hlinkClick r:id="rId49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9">
            <a:hlinkClick r:id="rId5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>
            <a:hlinkClick r:id="rId5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1">
            <a:hlinkClick r:id="rId5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>
            <a:hlinkClick r:id="rId6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>
            <a:hlinkClick r:id="rId64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4">
            <a:hlinkClick r:id="rId6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5">
            <a:hlinkClick r:id="rId70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7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6">
            <a:hlinkClick r:id="rId7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7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el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56386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el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&a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3">
            <a:hlinkClick r:id="rId76" action="ppaction://hlinksldjump"/>
          </p:cNvPr>
          <p:cNvSpPr/>
          <p:nvPr/>
        </p:nvSpPr>
        <p:spPr>
          <a:xfrm>
            <a:off x="1003320" y="55872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Golgi apprat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ucture called this helps support the cell.  It is a network of protein filaments that helps the cell maintain its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skele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cell outsid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nearly all of the cell’s DNA, coded instructions for making proteins and other important molecu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dotted with thousands of tiny pores that allow materials to move in and out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living things are composed of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ar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nular material you can see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hrom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s energy from sunlight and converts it into chemic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hloropla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s as a cell clean up 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lys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ts chemical energy in food into compounds the cell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itochondr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 channels allow for this to happen by allowing certain molecules to cross the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e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facilitated diffu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ing materials in a cell in the opposite direction against a concentration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active trans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cells only arise from pre-existing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65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bined work of Schleiden, Schwann, &amp; Virc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cell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on Von Leeuwenho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made the first hand-held micros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e an improved microscope and viewed thin slices 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k viewing plant cell w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new cells ar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is Robert Hoo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ert Hooke name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c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house of 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mitochondr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from existing ce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parts of a eukaryotic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nucleus and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ic cells contain structures known a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robinson</cp:lastModifiedBy>
  <dcterms:modified xsi:type="dcterms:W3CDTF">2008-02-19T19:42:08Z</dcterms:modified>
  <cp:revision>64</cp:revision>
  <dc:subject/>
  <dc:title>Math Module II Review</dc:title>
</cp:coreProperties>
</file>